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0B5-1C47-43BC-9A9D-45B68E12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C81-402F-4E6C-829A-1481F989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A12-AD85-4BDD-864E-866141A9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D87-7758-430D-9EC5-0BDA7214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944-AB93-4E82-811A-B8B46DD6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5AB-C9CB-4889-87D7-37B5282C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DF5-EB92-4097-8C5F-BC171F00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C26-6F87-4059-85C1-3156B8C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C75-17DA-434A-A4F4-27B4038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C39-D5BF-4687-9869-73B5CCC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678-0360-4A03-BB4F-45F962AE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820-5E56-4632-AE74-0831373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345-AFB0-4BAC-BB68-FAF2A60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E62-F119-4CBB-9C03-4BD7100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BE6-82C2-46EA-BC8B-5377262B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-2556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yasia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324480" y="0"/>
            <a:ext cx="1828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yasia W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yasia Wright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yasia Wri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yasia Wrgh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5254560"/>
            <a:ext cx="657360" cy="94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5254560"/>
            <a:ext cx="554040" cy="792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9371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5404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! Yo tengo un divertida dia. Como es tu nueva escue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! Como estas?  Tengo un mal dia. </a:t>
            </a:r>
            <a:r>
              <a:rPr b="0" lang="en-US" sz="7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Nya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3688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52280" y="3657600"/>
            <a:ext cx="1828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 llama es Nya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right. Yo vive en Nuev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rk.Yo tengo quince anos. Yo soy gracios y muy fuerte. Si, Yo tengo uno hermano y una herman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3:46Z</dcterms:created>
  <dc:creator>FriscoISD</dc:creator>
  <dc:description/>
  <dc:language>en-US</dc:language>
  <cp:lastModifiedBy>NYCDOE</cp:lastModifiedBy>
  <dcterms:modified xsi:type="dcterms:W3CDTF">2012-12-05T14:04:57Z</dcterms:modified>
  <cp:revision>101</cp:revision>
  <dc:subject/>
  <dc:title>Profile</dc:title>
</cp:coreProperties>
</file>